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1984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FBB524ED-E8E1-4E21-90AC-E69EB5AFA419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1840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14E5EE9B-2AA2-4AA1-870A-D299EC2370AF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966960" y="1893960"/>
            <a:ext cx="775152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TSP Executive Strategy Seminar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Module 5: Managing with Facts and Data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ask Hou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28520" y="1709280"/>
            <a:ext cx="737388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sk hours are the hours that the team spends on planned task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sk hours do not include many unplanned but necessary task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eetings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urs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sk coordin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dvice and assistanc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andling mail, supplies, expenses, etc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s can estimate task hours, but planning the other activities is guesswor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en measured, tracked, and managed, task hours can often be improv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26"/>
          <p:cNvSpPr/>
          <p:nvPr/>
        </p:nvSpPr>
        <p:spPr>
          <a:xfrm>
            <a:off x="1035000" y="2763720"/>
            <a:ext cx="7628040" cy="363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5" name="Picture 1027" descr=""/>
          <p:cNvPicPr/>
          <p:nvPr/>
        </p:nvPicPr>
        <p:blipFill>
          <a:blip r:embed="rId1"/>
          <a:stretch/>
        </p:blipFill>
        <p:spPr>
          <a:xfrm>
            <a:off x="1244520" y="2725560"/>
            <a:ext cx="6596280" cy="3922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mproving Task Hou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17720" y="1722240"/>
            <a:ext cx="7743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verage task hours per developer per week were improved from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9.6 hours to 15.1 hours through quiet time, process documentation, more efficient meetings, etc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8" name="Rectangle 1030"/>
          <p:cNvSpPr/>
          <p:nvPr/>
        </p:nvSpPr>
        <p:spPr>
          <a:xfrm>
            <a:off x="1047600" y="5918040"/>
            <a:ext cx="76280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9" name="AutoShape 1031"/>
          <p:cNvSpPr/>
          <p:nvPr/>
        </p:nvSpPr>
        <p:spPr>
          <a:xfrm>
            <a:off x="7851600" y="3587760"/>
            <a:ext cx="257400" cy="855720"/>
          </a:xfrm>
          <a:prstGeom prst="upArrow">
            <a:avLst>
              <a:gd name="adj1" fmla="val 50000"/>
              <a:gd name="adj2" fmla="val 83112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0" name="Text Box 1032"/>
          <p:cNvSpPr/>
          <p:nvPr/>
        </p:nvSpPr>
        <p:spPr>
          <a:xfrm>
            <a:off x="7595280" y="3073320"/>
            <a:ext cx="7956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+57%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1" name="Text Box 1033"/>
          <p:cNvSpPr/>
          <p:nvPr/>
        </p:nvSpPr>
        <p:spPr>
          <a:xfrm>
            <a:off x="1006560" y="6151680"/>
            <a:ext cx="1866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Source: Allied Signal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naging Task Hou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17360" y="1707840"/>
            <a:ext cx="77310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hours can only be improved by the develop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do so, they need management supp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ing weekly task hours directly improves team productiv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hour improvement costs little or noth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ned Valu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17360" y="1707840"/>
            <a:ext cx="76374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task’s earned value (EV) is the percentage of the total estimated project hours that the task is planned to tak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 values each task, regardless of typ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 is earned when the task is comple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is no partial cred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V credit is the same, regardless of the time the task actually tak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 provides a precise way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project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project completion d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82360" y="839520"/>
            <a:ext cx="7419960" cy="5634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ned Value Exampl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17280" y="1671480"/>
            <a:ext cx="7691400" cy="4507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10-person team estimates that the first development cycle of a job will take 1,000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’s top-down plan breaks the work into 5 pha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ask hour estimates for these first-cycle phases are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ments development: 165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-level design (HLD):  150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ailed design (DLD):  220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lementation:  250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ing:  215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82360" y="852120"/>
            <a:ext cx="74199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ned Value Exampl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05040" y="175716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lanned value (PV) is the value in the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value is earned (EV) only on task comple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946080" y="1782720"/>
            <a:ext cx="7597800" cy="22942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e Cycle 1 Task Pla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ask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Cycle 1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Task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umulative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PV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umulativ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No.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ask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Hour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ask Hour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 PV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quirement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6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6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16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6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HLD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5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1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15.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1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LD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22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53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2.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53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Implementation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25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78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25.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78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esting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1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,00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21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100.0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2360" y="839520"/>
            <a:ext cx="7419960" cy="5634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ned Value Example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039680" y="2025720"/>
            <a:ext cx="7837560" cy="367164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he Cycle 1 Schedule Pla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Week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Plan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   Cumulative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PV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Cumulativ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No.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Hours     Plan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Hours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 PV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  0.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32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31.5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31.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48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0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31.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64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22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53.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80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25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78.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9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0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78.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,12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21.5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100.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,28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0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100.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82360" y="852120"/>
            <a:ext cx="74199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Tracking Exampl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29880" y="1671480"/>
            <a:ext cx="7410600" cy="4507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fter four weeks, the work has taken longer than expec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finished the requirements in 218 hours instead of the planned 165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-level design took 186 hours instead of 150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tailed design is partially comple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members are confident they will finish it in a day or tw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the estimate for project completio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82360" y="839520"/>
            <a:ext cx="7419960" cy="5634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Tracking Exampl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33120" y="1671480"/>
            <a:ext cx="7410600" cy="4507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 tasks are completed, their EV is entered for the week earn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en is the project likely to finish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022400" y="2638440"/>
            <a:ext cx="7099200" cy="29509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chedule Planning Templat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Week     Plan        Actual         Cumulative      Cumulative       Cumulativ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No.     Hour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Hours        Actual Hour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PV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EV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  126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26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0.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0.0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  148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74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31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6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  156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430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31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1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4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  163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593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53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1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5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78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6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78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7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00.0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8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00.0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82360" y="839520"/>
            <a:ext cx="7419960" cy="5634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Tracking Example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29880" y="1671480"/>
            <a:ext cx="7410600" cy="4507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gets no credit for partially completed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velopers have earned 31.5 EV in 4 weeks, or 7.875 EV per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100-31.5 = 68.5 EV to g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7.8754 per week, that is 8.7 more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ed to the 4 weeks spent so far, that is 12.7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current rate of progress, the team will be 5.7 weeks l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5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94960" y="826920"/>
            <a:ext cx="7419960" cy="563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Tracking Consideration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42840" y="1657080"/>
            <a:ext cx="7956720" cy="45068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more detailed plans, status can be more precisely measu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more precise status information, completion projections are more accur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re accurate completion projections will help you manage the busin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82360" y="839520"/>
            <a:ext cx="7419960" cy="5634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usiness Implication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42840" y="1657080"/>
            <a:ext cx="7756560" cy="45068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PSP training, developers know how to plan, schedule, and track thei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teams use these PSP-learned methods to make detailed pla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s are no more than 10 task hours e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time is recorded dai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 is measured week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can tell project status to within 10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teams regularly report their statu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ing Facts and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schedules slip a day at a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cannot precisely measure project status, you will not know where projects stan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out such knowledge, you cannot address schedule problems in time to fix th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he TSP, you c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osely monitor team performa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ress problems in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stently meet schedu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athering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precise project management, teams need precise project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data must be gathered by the develop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do so, they must b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perly train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itably l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qualified TSP coach can help teams and team leaders gather and use their TSP data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ata Sensitiv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sonal data are sensit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ivity varies among individu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ople have off day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istakes are always embarrass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developers feel that their personal data could be used against them, they will not gather that data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ly use aggregate team data to manage TSP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management respects the developers’ data, data privacy will not be an issu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Hold Regular Project Review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iodic project reviews help you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project statu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impending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ose poo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superio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gular reviews also help teams b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wing continued management inter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inforcing your desire for quality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intaining the team’s motiv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ing areas where the team needs hel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ward Quality Wor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organizations reward the firefighters, they have lots of fi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less management recognizes and rewards quality work, the developers and teams who quietly do such work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on become invisi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passed over in promo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discouraged and lea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arch for and reward those who do the highest quality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17720" y="17222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get the best performance, teams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detaile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 their processes an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and use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consistently do this, they must be rationally manag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your teams to perform at their b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 that the teams gather and use their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only team-level data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gularly review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ward quality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ing self-directed tea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tional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challenging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the fa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facts and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ticipate and address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discipli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warding quality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8040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naging Self-directed Tea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917720" y="5138640"/>
            <a:ext cx="5494320" cy="12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Membe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603520" y="3849840"/>
            <a:ext cx="4808520" cy="1293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032280" y="2563920"/>
            <a:ext cx="4379760" cy="12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403880" y="5288040"/>
            <a:ext cx="3022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rocess disciplin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erformance measure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Estimating &amp; planning skil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Quality management skil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489560" y="3986280"/>
            <a:ext cx="2832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Goal setting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Role assignmen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ailored team 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etailed balanced plan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241600" y="2637000"/>
            <a:ext cx="21250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eam communic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eam coordin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roject tracking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Risk analysi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 flipH="1" rot="5400000">
            <a:off x="6037920" y="3328920"/>
            <a:ext cx="4098960" cy="857160"/>
          </a:xfrm>
          <a:prstGeom prst="rightArrow">
            <a:avLst>
              <a:gd name="adj1" fmla="val 54389"/>
              <a:gd name="adj2" fmla="val 40293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i="1" lang="en-US" sz="1800" spc="-1" strike="noStrike">
                <a:solidFill>
                  <a:srgbClr val="39536b"/>
                </a:solidFill>
                <a:latin typeface="Arial Black"/>
              </a:rPr>
              <a:t>Team Performanc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 rot="16200000">
            <a:off x="1181520" y="5588640"/>
            <a:ext cx="7102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 Black"/>
              </a:rPr>
              <a:t>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 rot="16200000">
            <a:off x="1959840" y="3452040"/>
            <a:ext cx="6966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 Black"/>
              </a:rPr>
              <a:t>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546360" y="1708200"/>
            <a:ext cx="3865680" cy="879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Senio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641200" y="1708200"/>
            <a:ext cx="1721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eam suppor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eam disciplin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rogram visibil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931680" y="1692360"/>
            <a:ext cx="20592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Capitalizing o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team potential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is management’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responsibility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1440" y="692280"/>
            <a:ext cx="8226360" cy="8553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nagement Direc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28800" y="1655640"/>
            <a:ext cx="7640640" cy="459576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1840" bIns="5184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are very respons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will try to do whatever you wa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out guidance, they will do what they think you wa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at may not be what you really wa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stress schedule above everything else, teams will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rive to meet aggressive d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rtchange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ke more time than following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ing the job the right way is, in the end, always the fastest and cheapest wa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ational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tional management is the most effective way to manage TSP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tional management has four ele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ting aggressive but realistic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ting the fa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facts and data to make decis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itoring team performance to anticipate and address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ggressive but Realistic Goal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28520" y="1722600"/>
            <a:ext cx="7305480" cy="46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eryone knows what an aggressive goal is, but what is a realistic goal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realistic goal is one that the team members see how to mee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have made a plan to meet the goa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are willing to commit to this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ensure that the goal is realistic, probe the team’s plan to ensure that i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detailed and comple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based on historical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s the key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Negotiating Realistic Schedu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eams say that they cannot meet a date, that date is  unrealisti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insist that the team meet that date, there is little if any chance that the team will do s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rrational management has several consequen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cannot make believable pla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do not believe the plans that they ha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are not motivated to meet management’s d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ir jobs take longer than they would with a realistic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etting the Fa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provides many kinds of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full assessment of project status must include schedule and quality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he task hour and earned value (EV) measures, teams can precisely determine schedule statu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can also estimate when they will likely finish the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51:33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7:51Z</dcterms:modified>
  <cp:revision>18</cp:revision>
  <dc:subject>24 July 2001 / 3:30pm</dc:subject>
  <dc:title>PowerPoint Presentation</dc:title>
</cp:coreProperties>
</file>